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516-954C-49B4-B43A-EAF9E899C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FA63-C4E1-41FA-B46D-6FF39D65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DE3-0CED-4293-8A44-EE5CDC433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922-F6E2-4B98-8E9B-B4B6ED504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1AEE-669D-4EF4-957C-52A06B28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C34-A1C6-445B-BE2B-2B865E24D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F4F-AEFF-4484-8419-96BF1C3A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84EA-C4A6-4FE1-9645-00E482B9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C8B1-415A-4529-959E-BA79453A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8BD-2A44-4148-9BA4-9709DA21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E77B-DB62-4CCC-BFD0-7F6B717E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818-7D55-4F25-8900-1BC91B65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E133-0666-4C01-9D57-B21BFC207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982080" cy="857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0:14:46Z</dcterms:created>
  <dc:creator>Donna Kertis</dc:creator>
  <dc:description/>
  <dc:language>en-US</dc:language>
  <cp:lastModifiedBy>tvsd</cp:lastModifiedBy>
  <dcterms:modified xsi:type="dcterms:W3CDTF">2009-03-09T13:21:57Z</dcterms:modified>
  <cp:revision>1</cp:revision>
  <dc:subject/>
  <dc:title>PowerPoint Presentation</dc:title>
</cp:coreProperties>
</file>